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6.gif" ContentType="image/gif"/>
  <Override PartName="/ppt/media/image10.jpeg" ContentType="image/jpeg"/>
  <Override PartName="/ppt/media/image7.gif" ContentType="image/gif"/>
  <Override PartName="/ppt/media/image12.gif" ContentType="image/gif"/>
  <Override PartName="/ppt/media/image8.gif" ContentType="image/gif"/>
  <Override PartName="/ppt/media/image9.gif" ContentType="image/gif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0E9B-5A68-4898-AD40-E24A64F34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DA04-1712-48A1-8F35-6EA9B702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7147-C55A-4F71-8C05-54292C489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B531-1974-4053-B5D5-BE3CEBF7C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46EE-F066-45CB-A129-A2D7C489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DBD7-B6B9-4AC5-A865-F1407490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C603-F4FD-41B2-8711-AB1970F4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9616-425E-43FE-95FD-9463024D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E67A-90ED-4E69-9949-AB5C6FC7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BEF6-C524-4114-92F5-0BDBAE44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78E9-BD73-4BCE-9991-85E6709D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20B4-B4C4-4617-A6AB-AE27DDC3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938C-55E6-4EB8-AFD0-BFEC51737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nkh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A building in camp where a group of people slee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Bunk 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A 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 Break: Bunk-Base Word: h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629400" y="4114800"/>
            <a:ext cx="1535040" cy="1981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791320" y="1981080"/>
            <a:ext cx="29224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d (of woo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A measure for a stack of w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l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le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 Break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621400" y="1981080"/>
            <a:ext cx="2684520" cy="1981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800600" y="4191120"/>
            <a:ext cx="3657600" cy="24192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75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e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Of great size, or deg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little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 Break: im-men-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95880" y="2971800"/>
            <a:ext cx="1000080" cy="1047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857920" y="4610160"/>
            <a:ext cx="2066760" cy="990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0047ff"/>
            </a:gs>
            <a:gs pos="100000">
              <a:srgbClr val="00008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dsca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A stretch of 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 Break: land-sc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705720" y="1676520"/>
            <a:ext cx="2116080" cy="2286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477120" y="4114800"/>
            <a:ext cx="243828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umberja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31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A person who chop down tre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lon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: teac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 Break: lumber-jac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lun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800600" y="1600200"/>
            <a:ext cx="3657600" cy="2468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943600" y="4724280"/>
            <a:ext cx="2133720" cy="1878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e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of great size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4</cp:lastModifiedBy>
  <dcterms:modified xsi:type="dcterms:W3CDTF">2009-01-30T18:29:40Z</dcterms:modified>
  <cp:revision>8</cp:revision>
  <dc:subject/>
  <dc:title>PowerPoint Presentation</dc:title>
</cp:coreProperties>
</file>